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D5F-C8FB-47DE-AA89-80CEC25F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58F-86EC-4E40-9E2F-5A4912E6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D68-BB33-4C84-878B-60C420DF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985-87E7-4504-95A1-23885572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89C5-39F6-4E30-BEFA-E1A024B0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7A57-7654-4F0C-9E6C-820FD474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3CF5-CA92-4F5D-A0C8-B5FFDD64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402A-6C85-4111-8692-9C6ED8B3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C65E-D152-482C-8C04-C97BC436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0EA1-6A49-4E6F-9462-AA3126FD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A6BF-EFEB-4F9A-B02D-06CC69F7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008-BB61-45B9-BE4C-4E271BB9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710F-67EB-473B-81AA-46CF1F29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F63E-D761-459E-9386-5E9815C8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D51B-BEB2-40EE-9D5F-AACC6974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AB24-5BF2-4C56-B271-2C0383C7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A4B0-D1D8-4C8D-9481-1DBB7A11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BD8C-9B38-4053-AA75-2641D7F8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D708-FC48-412A-9D3C-7DD57A75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25E7-918B-4814-92E9-06011082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596E-3B60-49D3-A778-A1436B9C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E9C4-DBF1-4A68-B7DE-3F75EE09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439-38FB-4FF3-9CDF-39056B4E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FFED5-DC9A-4C9C-948E-0CAEDCC7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5836-B298-4408-A551-E8E1238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9B13A-21EE-41D5-8346-CDE38C36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63F5-3036-4529-AFBF-FB5475C9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2F55A-9B02-469A-8B47-5BE1954E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BFAB-13B5-4863-A0D6-25A4AB16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8E75-03B2-4C94-8C09-EC8F0B34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15015-7317-4ADC-A634-4050D343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6A21B-260A-45AA-9D79-FA68322E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9786-B4DA-4E86-A094-EEC81FEA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0B0-3F5E-464C-AC98-15C97ACE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D8C0-B13C-4BED-A9D0-9526DA5B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C166-FA58-494A-9D09-20B3435D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F1D92-1246-470F-B42A-2822881E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B2CAF-02D5-4964-BCD4-0397A44B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55AF-5940-4243-8330-4F331B5D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D7512-334C-4BF5-83CD-9D01964F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20632-BF7D-4307-88DB-496B1428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7961-0C6E-4214-90FF-E4F9FD7D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E68B3-A8F0-4E5E-93DF-904717D3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706A5-67BB-4520-BA81-284935EA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0D8-BE01-4C83-B95B-7E815F97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DA808-1BC1-4396-A6CB-252F5D1A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79F58-0026-48AE-9022-BC0E8C9A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28BC7-03F8-4AEC-B973-899F1071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280AF-93D1-4343-8ED9-513E6819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DD86E-3EBB-4841-AD07-D03192F9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20572-B97D-49E3-9B08-A385B4EF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5FCE5-6680-4281-BBDE-A4DA99BF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8B407-F3AF-4EF9-B590-7BB228E3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833B-66EA-4B75-BF9C-ABA6C9B6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61103-E037-43C4-BF17-A80F66C1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FA5-D14A-47BC-B7B8-9D79BB58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D73E-A69A-46C4-B2E3-9B228DAF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C7F-7189-497C-A68F-6E714842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BE1-DE45-44ED-8279-98BDD67A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6CB-585A-41F0-9FEA-23566DAC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4B09-0932-431F-AF7C-2E19918EF078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CC02-8FBD-4536-9CC4-1C056653DF06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5857-3CE4-4E1F-8506-45AEF35BD9B4}" type="slidenum">
              <a:rPr b="0" lang="en-CA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0885-8888-47B5-96BC-09CC60BA95E9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3A40-2A26-4A94-B134-E6CF7DE163B0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Federal Government (based in Ottawa) provides services such as: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0" y="3902040"/>
            <a:ext cx="3270240" cy="29559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6554880" y="4745160"/>
            <a:ext cx="2585880" cy="19796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"/>
          <p:cNvPicPr/>
          <p:nvPr/>
        </p:nvPicPr>
        <p:blipFill>
          <a:blip r:embed="rId4"/>
          <a:stretch/>
        </p:blipFill>
        <p:spPr>
          <a:xfrm>
            <a:off x="3238560" y="2298600"/>
            <a:ext cx="45687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Provincial and Territorial government administer: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28440" y="2095560"/>
            <a:ext cx="4000680" cy="2666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7186680" y="2013120"/>
            <a:ext cx="1957320" cy="2828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4"/>
          <a:stretch/>
        </p:blipFill>
        <p:spPr>
          <a:xfrm>
            <a:off x="1258920" y="4762440"/>
            <a:ext cx="66261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Municipal governments look after: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108000" y="2349360"/>
            <a:ext cx="2666880" cy="3383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3"/>
          <a:stretch/>
        </p:blipFill>
        <p:spPr>
          <a:xfrm>
            <a:off x="3924360" y="2793960"/>
            <a:ext cx="4714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We move large amounts of freight and people around the country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Shipping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Railway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Trucking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Air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Public Transit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Tertiary industry workers earn their living in retail trade, service-oriented jobs and government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The largest tertiary industry is the business and personal services industry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73.7 % of Canadians work in the Tertiary industry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Tertiary jobs do not produce any raw materials or goods, instead they provide services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While many jobs are unskilled, others such as a teacher or lawyer require training and education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fe6d0"/>
                </a:solidFill>
                <a:latin typeface="Tw Cen MT"/>
              </a:rPr>
              <a:t>Retail Sector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Provides consumers with a wide variety of good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Cars, clothe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fe6d0"/>
                </a:solidFill>
                <a:latin typeface="Tw Cen MT"/>
              </a:rPr>
              <a:t>Ribbon Development- </a:t>
            </a: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 rows of stores side by side on a main street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Strip Mall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planned shopping areas are found in newer areas and suburb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advantage is that they offer free parking and more space for retailers than ribbon development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762120" y="928800"/>
            <a:ext cx="7619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Regional Malls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Pembroke Mall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Wide variety of goods and services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Facilities such as day care, spas and blood donor clinics, restaurants, movie theatres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Big Box Stores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Large retail stores that offer a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huge volume of goods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Because of size and volume these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stores can sell products for less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5724360" y="3645000"/>
            <a:ext cx="28576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Smaller locally owned stores can not compete with low prices and huge selection offered by the big box store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46386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3:28:23Z</dcterms:created>
  <dc:creator>Jason</dc:creator>
  <dc:description/>
  <dc:language>en-US</dc:language>
  <cp:lastModifiedBy>Jason</cp:lastModifiedBy>
  <dcterms:modified xsi:type="dcterms:W3CDTF">2011-01-06T14:03:54Z</dcterms:modified>
  <cp:revision>4</cp:revision>
  <dc:subject/>
  <dc:title>8.3 Tertiary Industries</dc:title>
</cp:coreProperties>
</file>